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jpeg" ContentType="image/jpeg"/>
  <Override PartName="/ppt/media/image8.wmf" ContentType="image/x-wmf"/>
  <Override PartName="/ppt/media/image9.png" ContentType="image/png"/>
  <Override PartName="/ppt/media/image10.jpeg" ContentType="image/jpeg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9DE9-D586-4170-981D-A4A7B5AA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44D5-063E-4948-8D2A-7A325218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86C0-0A40-4B9C-A625-63D9D01D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11C0-813A-4BD1-90F1-8BB7C148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73AA-39EE-4168-8AD5-1672EA24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A803-DDFB-4A81-921F-4AB02FC5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9AD3-A8B6-4F76-9BF0-00ADFAE6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3228-3C0D-48F0-AD96-5BB05153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1831-E0A0-4B9F-AC0F-96FF3463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09E0-8740-40F8-AC92-D6FC2DF6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06A2-BF05-4A33-B3C6-B2CC67B0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1A2F-9889-40EB-8276-CC9DD3CD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4644-C6CC-49C3-BBB5-BACF4FBA2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png"/><Relationship Id="rId3" Type="http://schemas.openxmlformats.org/officeDocument/2006/relationships/image" Target="../media/image11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.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05320" y="114300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ff The Fable </a:t>
            </a: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The L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And The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0" y="0"/>
            <a:ext cx="90676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Bully And The KI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2659680" y="5599080"/>
            <a:ext cx="30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Play Music : Dark N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083 -0.04232 L 0.57917 0.76786 E">
                                      <p:cBhvr>
                                        <p:cTn id="18" dur="3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152280"/>
            <a:ext cx="9144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0099"/>
                </a:solidFill>
                <a:latin typeface="Script MT Bold"/>
              </a:rPr>
              <a:t>No act of kindness no matter how small is ever wasted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82000000">
                                      <p:cBhvr>
                                        <p:cTn id="2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Impact"/>
              </a:rPr>
              <a:t>Characte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Chiller"/>
              </a:rPr>
              <a:t>Sheldon the wimpy k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Brett the b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00"/>
              </a:buClr>
              <a:buFont typeface="Viner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Viner Hand ITC"/>
              </a:rPr>
              <a:t>Mr. Smith the math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3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40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42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44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rett the bully was a very large and strong kid. He was a bully and liked to take peoples lunch money. One day on a crisp fall morning Brett was walking to school when he saw a kid named Sheldon. Sheldon was a small, scrawny kid who got picked on a lot. Brett ran over to Sheldon and picked him up by his shi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666880" y="3429000"/>
            <a:ext cx="3657600" cy="3276720"/>
          </a:xfrm>
          <a:prstGeom prst="rect">
            <a:avLst/>
          </a:prstGeom>
          <a:ln w="0">
            <a:noFill/>
          </a:ln>
        </p:spPr>
      </p:pic>
      <p:sp>
        <p:nvSpPr>
          <p:cNvPr id="51" name="PubOvalCallout"/>
          <p:cNvSpPr/>
          <p:nvPr/>
        </p:nvSpPr>
        <p:spPr>
          <a:xfrm flipH="1" rot="14378400">
            <a:off x="1253520" y="3698640"/>
            <a:ext cx="1911600" cy="2133720"/>
          </a:xfrm>
          <a:custGeom>
            <a:avLst/>
            <a:gdLst>
              <a:gd name="textAreaLeft" fmla="*/ 279720 w 1911600"/>
              <a:gd name="textAreaRight" fmla="*/ 1631880 w 1911600"/>
              <a:gd name="textAreaTop" fmla="*/ 234360 h 2133720"/>
              <a:gd name="textAreaBottom" fmla="*/ 1366920 h 21337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 me all your lunch money or els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ubOvalCallout"/>
          <p:cNvSpPr/>
          <p:nvPr/>
        </p:nvSpPr>
        <p:spPr>
          <a:xfrm flipH="1" rot="5947200">
            <a:off x="6071760" y="3985200"/>
            <a:ext cx="2943000" cy="2439000"/>
          </a:xfrm>
          <a:custGeom>
            <a:avLst/>
            <a:gdLst>
              <a:gd name="textAreaLeft" fmla="*/ 430920 w 2943000"/>
              <a:gd name="textAreaRight" fmla="*/ 2512080 w 2943000"/>
              <a:gd name="textAreaTop" fmla="*/ 267840 h 2439000"/>
              <a:gd name="textAreaBottom" fmla="*/ 1562400 h 24390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don’t hurt me or take my lunch money. Ill make it up to you! I promis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257800" y="4191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6579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rett thought this was funny so he let Sheldon go. The next day at school Brett was in his math class and was right about to take a test for math. When Brett got his test he reached for his pencil in his pocket where he usually keeps it. He couldn’t find it! If he didn’t find a writing utensil soon he’d fail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3108240" cy="3124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257800" y="4648320"/>
            <a:ext cx="3733920" cy="2457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 rot="3618600">
            <a:off x="3962520" y="3657600"/>
            <a:ext cx="2133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" dur="5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tt couldn’t go get a pencil from his locker because the bell already rang and if he asked his mean math teacher Mr. Smith for a pencil, Mr. Smith would just yell at him for being unprepared and such. Just then Sheldon saw Brett’s predicament. Sheldon walked over to Brett's desk and gave him a spare pencil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76520" y="3451320"/>
            <a:ext cx="5105160" cy="3406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 rot="9883800">
            <a:off x="-685440" y="479988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62" name="PubOvalCallout"/>
          <p:cNvSpPr/>
          <p:nvPr/>
        </p:nvSpPr>
        <p:spPr>
          <a:xfrm rot="18951000">
            <a:off x="761760" y="3809520"/>
            <a:ext cx="2092320" cy="1355760"/>
          </a:xfrm>
          <a:custGeom>
            <a:avLst/>
            <a:gdLst>
              <a:gd name="textAreaLeft" fmla="*/ 306360 w 2092320"/>
              <a:gd name="textAreaRight" fmla="*/ 1785960 w 2092320"/>
              <a:gd name="textAreaTop" fmla="*/ 149040 h 1355760"/>
              <a:gd name="textAreaBottom" fmla="*/ 868320 h 135576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you go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ubOvalCallout"/>
          <p:cNvSpPr/>
          <p:nvPr/>
        </p:nvSpPr>
        <p:spPr>
          <a:xfrm flipH="1" rot="3189600">
            <a:off x="5026680" y="3428640"/>
            <a:ext cx="1981080" cy="2133720"/>
          </a:xfrm>
          <a:custGeom>
            <a:avLst/>
            <a:gdLst>
              <a:gd name="textAreaLeft" fmla="*/ 289800 w 1981080"/>
              <a:gd name="textAreaRight" fmla="*/ 1691280 w 1981080"/>
              <a:gd name="textAreaTop" fmla="*/ 234360 h 2133720"/>
              <a:gd name="textAreaBottom" fmla="*/ 1366920 h 21337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!! Thank you so muc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 rot="906000">
            <a:off x="2590560" y="3886200"/>
            <a:ext cx="761760" cy="341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84971E-006 L 0.40001 0.0222 E">
                                      <p:cBhvr>
                                        <p:cTn id="135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3936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ldon saved Brett’s life but not literally though. Since Sheldon gave Brett  a pencil Brett ended up getting an A+ on his test, and it was all thanks to Sheld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6400800" cy="4292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657600" y="2209680"/>
            <a:ext cx="2092320" cy="2362320"/>
          </a:xfrm>
          <a:prstGeom prst="rect">
            <a:avLst/>
          </a:prstGeom>
          <a:ln w="0">
            <a:noFill/>
          </a:ln>
        </p:spPr>
      </p:pic>
      <p:sp>
        <p:nvSpPr>
          <p:cNvPr id="69" name="PubOvalCallout"/>
          <p:cNvSpPr/>
          <p:nvPr/>
        </p:nvSpPr>
        <p:spPr>
          <a:xfrm rot="17030400">
            <a:off x="799920" y="2324520"/>
            <a:ext cx="1828800" cy="190476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209160 h 1904760"/>
              <a:gd name="textAreaBottom" fmla="*/ 1220040 h 190476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! Thank you Sheld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rcRect l="22250" t="0" r="-25143" b="1818"/>
          <a:stretch/>
        </p:blipFill>
        <p:spPr>
          <a:xfrm>
            <a:off x="6553080" y="2209680"/>
            <a:ext cx="2819520" cy="4114800"/>
          </a:xfrm>
          <a:prstGeom prst="rect">
            <a:avLst/>
          </a:prstGeom>
          <a:ln w="0">
            <a:noFill/>
          </a:ln>
        </p:spPr>
      </p:pic>
      <p:sp>
        <p:nvSpPr>
          <p:cNvPr id="71" name="PubOvalCallout"/>
          <p:cNvSpPr/>
          <p:nvPr/>
        </p:nvSpPr>
        <p:spPr>
          <a:xfrm rot="17653200">
            <a:off x="5514840" y="3800160"/>
            <a:ext cx="1798560" cy="1960560"/>
          </a:xfrm>
          <a:custGeom>
            <a:avLst/>
            <a:gdLst>
              <a:gd name="textAreaLeft" fmla="*/ 263160 w 1798560"/>
              <a:gd name="textAreaRight" fmla="*/ 1535400 w 1798560"/>
              <a:gd name="textAreaTop" fmla="*/ 215280 h 1960560"/>
              <a:gd name="textAreaBottom" fmla="*/ 1256040 h 196056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w! Good Job and your welco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572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569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5:58:23Z</dcterms:created>
  <dc:creator>install</dc:creator>
  <dc:description/>
  <dc:language>en-US</dc:language>
  <cp:lastModifiedBy>install</cp:lastModifiedBy>
  <dcterms:modified xsi:type="dcterms:W3CDTF">2011-05-09T15:52:32Z</dcterms:modified>
  <cp:revision>11</cp:revision>
  <dc:subject/>
  <dc:title>Slide 1</dc:title>
</cp:coreProperties>
</file>